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6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482-247F-4609-A02F-24708909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895-7022-4C36-9E6C-5E88B25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949-E274-4AC5-A4F5-16A6818F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8EC-674C-4487-B25E-2847A642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DA33-ED5D-4E0E-90C9-C65BB1C2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C5AC-E3A8-4B1B-8609-750D909C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6D03-04CF-48EB-A3A7-4371633C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738C-134E-4DFC-B79D-C0B32D9D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9012-5223-4F59-9196-2D0F4505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0066-5882-4754-935F-37A7AC9A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44C7-7347-43F3-BF9F-C00C8B38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B18-96A6-4589-9993-CEF09A1D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ADAE-4C90-44F1-9A61-8B3FD617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8DF8-FB93-4B46-8DBE-D136AA8F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0650-49B6-4E7D-BA7E-CEA4031D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4327-56F6-4B54-A5ED-3C4A0BD7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62DD-1499-4924-998B-653F4FBE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96F-3A6E-4156-A0EE-C438264D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4FD-7CC5-48A2-A622-37403752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5A3-4729-4593-A408-208476E5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450-9AEA-4214-9F69-AEE73A60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977-C780-41F0-A6D0-089AFEA2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31A-7A2D-4EF7-8490-DD264FB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DD0-355E-479E-90C6-6FC9EE64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E612-79CA-47A7-A41D-6F9E1635C99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99AD-C52E-44D4-8759-077EA1A72D63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illuminations.nctm.org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xtkit.com/latin_grammar.php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csiseminar.wikispaces.com/" TargetMode="External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lickr.com/photos/kpruitt77/1935339986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Using Technology to Enhance Instr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5886360"/>
            <a:ext cx="86108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Lisa Dur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Broadfording Christian Acade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20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classrooms we ne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3640" y="6552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714840" y="257184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ink-Pair-Sh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do you acquire new knowledge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at are your personal &amp; professional interests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bout what are you passionate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ow do you currently learn &amp; grow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urn to a person beside you &amp; tell them your answers (2 mins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ll the person behind or in front of you what you were told (2 min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 spd="slow"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ink-Pair-Sh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do learners acquire new knowledge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at are their interests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bout what are they passionate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ow do they currently learn &amp; grow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ree Web2.0 tools can connect today’s learners to communities &amp; content that interest them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162920" y="4267080"/>
            <a:ext cx="1600200" cy="18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24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How to integr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does one go from integrating technology to MI Theory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-1976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86200" y="2590920"/>
            <a:ext cx="48387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ntegrating Technology through MI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ard Gardn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0" y="2871720"/>
            <a:ext cx="3048120" cy="266220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multiple intelligences ar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114800" cy="2535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VISUAL/SPATIAL 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VERBAL/LINGUISTIC 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ATHEMATICAL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LOGICAL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BODILY/KINESTHETIC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USICAL/RHYTHMIC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INTRAPERSONAL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INTERPERSONAL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NATURALIST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XISTENTIAL (maybe)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 advTm="2000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4038480" cy="3065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ath</a:t>
            </a:r>
            <a:br>
              <a:rPr sz="3200"/>
            </a:b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3"/>
              </a:rPr>
              <a:t>Illuminations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 NCTM's websi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09240" y="1371600"/>
            <a:ext cx="583164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atin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Textkit</a:t>
            </a:r>
            <a:br>
              <a:rPr sz="2800"/>
            </a:br>
            <a:r>
              <a:rPr b="0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llection of Latin textbook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rcRect l="0" t="11782" r="38397" b="0"/>
          <a:stretch/>
        </p:blipFill>
        <p:spPr>
          <a:xfrm>
            <a:off x="3200400" y="3200400"/>
            <a:ext cx="5257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ibl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21178" r="7644" b="9413"/>
          <a:stretch/>
        </p:blipFill>
        <p:spPr>
          <a:xfrm>
            <a:off x="1371600" y="1828800"/>
            <a:ext cx="74786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Nationa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odcas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19374" t="21880" r="41882" b="37491"/>
          <a:stretch/>
        </p:blipFill>
        <p:spPr>
          <a:xfrm>
            <a:off x="3429000" y="1752480"/>
            <a:ext cx="47242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Presentation Forma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ay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Who I am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estimony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y should we integrate? (video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ink-Pair-Share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l la Durff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I Theor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ntent area integration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llaborative group activity (15 min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fo for this session at </a:t>
            </a:r>
            <a:r>
              <a:rPr b="0" lang="en-US" sz="28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tp://acsiseminar.wikispaces.com/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 spd="slow" advTm="900000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usi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ypersco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124080" y="2743200"/>
            <a:ext cx="310068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cienc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18748" t="21880" r="20634" b="35147"/>
          <a:stretch/>
        </p:blipFill>
        <p:spPr>
          <a:xfrm>
            <a:off x="1371600" y="1905120"/>
            <a:ext cx="73915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panis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523872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ollaborative Group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one unit plan in a collaborative group using both MIs and Bloom's Taxonomy to integrate technology. Use the hardcopy handout of the grid to create your plan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se will be shared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n the wiki over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anksgiving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p:transition advTm="13000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echnology is not the enemy.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olcatteacher mov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 advTm="2000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Let’s make a Podcast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eflect on at least one take-away by using your touch-tone phone.                                         Call 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1.888.887.3127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                            channel number: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15242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#                          channel password: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#                                                                                                      Press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to record                                                                                                           Talk                                                                 Press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to publish                                         your audio will be added to this podcast (it may take awhile depending on many factors) 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58000" y="2514600"/>
            <a:ext cx="103824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usiness car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valuation Cards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 Convention Program Boo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Need a volunteer to collect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s you leav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ay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2746440" cy="344304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avis, Victoria (2007, March 23) Technology Fear Factor. [Video] United States: Westwood School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cJohn took the final exam photograph covered under a Creative Commons Attribution 2.0 license available at http://www.flickr.com/photos/34017702@N00/74907741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raper, Darren (2007, April 4) Have you been paying attention? [Video] United States: Jordan School Distric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re Monkey Fish, (2006, July 14). Retrieved November 16, 2007, from Flickr Web site: http://www.flickr.com/photos/mmewuji/189813379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sch, K. (2007). 2020 Vision. [Video] United States: Arapahoe High School, Colorado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scher, J. (2005, December 5). Chicago Symphony Orchestra, featuring the Marcus Roberts Trio. Retrieved November 17, 2007, from http://www.flickr.com/photos/jordanfischer/72510316/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Gardner, Howard (2003, April 21). Multiple Intelligences After Twenty Years. Retrieved November 10, 2007, from Paper presented at the American Educational Research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 advTm="1000">
    <p:cover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Im *S, (2007, May 4). Retrieved November 16, 2007, from Flickr Web site: http://www.flickr.com/photos/saaenara/483806161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Lawler, Greg (2006, March 23). Retrieved November 16, 2007, from Flickr Web site: http://www.flickr.com/photos/zinkwazi/117097746/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mtzjr69out (2006, June 13) retrieved November 16, 2007 from Flickr Web site: http://www.flickr.com/photos/56477019@N00/166858645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Pruitt, K. (2007). DuBois Commlab. Retrieved June 2007, from kpruitt’s Flickr account at http://www.flickr.com/photos/kpruitt77/534591487/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Pruitt, K. (2007, November 9). Digital Native. Retrieved November 17, 2007 from http://www.flickr.com/photos/kpruitt77/1935339986</a:t>
            </a:r>
            <a:r>
              <a:rPr b="0" lang="en-US" sz="20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/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Zombuki, Philips (2007, March 30). Retrieved November 16, 2007, from Flickr Web site: http://www.flickr.com/photos/riotsqurrl/440192791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 advTm="100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ntrodu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’m mrsdurff online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 am just a learn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y Testimon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Integrate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0" y="1294920"/>
            <a:ext cx="53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225960" cy="4419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0080" y="5715000"/>
            <a:ext cx="28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From an anonymous German postcard 1888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8800" y="1684440"/>
            <a:ext cx="280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nvisible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000" y="3124080"/>
            <a:ext cx="308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amles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4000" y="4572000"/>
            <a:ext cx="351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biquitou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 advTm="2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ave you been paying attenti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2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2571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y Integrate?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91120" y="3505320"/>
            <a:ext cx="4343400" cy="27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y b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563904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o educate these learners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classrooms we ha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441972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2:14:38Z</dcterms:created>
  <dc:creator>Lisa C Durff</dc:creator>
  <dc:description/>
  <cp:keywords/>
  <dc:language>en-US</dc:language>
  <cp:lastModifiedBy>HP Authorized Customer</cp:lastModifiedBy>
  <dcterms:modified xsi:type="dcterms:W3CDTF">2008-11-23T01:58:34Z</dcterms:modified>
  <cp:revision>115</cp:revision>
  <dc:subject/>
  <dc:title>Using Technology to Enhance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51033</vt:lpwstr>
  </property>
</Properties>
</file>